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605F6-B1F8-492A-929A-8A358855A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D9092-330E-4DF6-8ECD-39AAAF8C8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48A17-1F85-4550-849E-C9CC7055D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F4C32-6776-47FC-A73C-CDD4139A8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5F3DA-C87D-45EE-BB9A-2783A868A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0F6E3-F8DD-4947-B3ED-A61799D88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ECC54-EB01-4AB1-9F3E-969AA698D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606F1-C0FA-49DA-836F-D5DD8A9A2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0C3F2-2FDF-417D-ABB8-690D411C7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F8AA9-3D06-4C44-AFA6-0CA194E35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D35DB-2D31-4803-B168-B97FE5EB6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C7F35-4F6D-4FA0-AD54-0F5CB9D54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7FC29-AF4B-4249-8499-DD42348637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6"/>
          <p:cNvSpPr/>
          <p:nvPr/>
        </p:nvSpPr>
        <p:spPr>
          <a:xfrm>
            <a:off x="755640" y="6388200"/>
            <a:ext cx="6840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Capacities at Points of En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8C0755CA-06F1-44C7-B340-8DA1DBED0FDD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3240" y="2367000"/>
            <a:ext cx="9140760" cy="167328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Verdana"/>
              </a:rPr>
              <a:t>Capacities at Points of Ent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2060"/>
                </a:solidFill>
                <a:latin typeface="Arial"/>
              </a:rPr>
              <a:t>Process of screening: </a:t>
            </a:r>
            <a:r>
              <a:rPr b="1" lang="en-US" sz="2600" spc="-1" strike="noStrike">
                <a:solidFill>
                  <a:srgbClr val="002060"/>
                </a:solidFill>
                <a:latin typeface="Arial"/>
              </a:rPr>
              <a:t>Referral to medical health authoriti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30824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If public health official decision is to refer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ze transport to medical facility and notify public health authorit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ce the traveler referred on travel restriction list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2060"/>
                </a:solidFill>
                <a:latin typeface="Arial"/>
              </a:rPr>
              <a:t>Exit screening process should be accompanied by an extensive public health communication campaign to educate on the iss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Screening for EVD at point of Entr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68360" y="141300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Upon arrival from EVD affected countr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00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f0"/>
                </a:solidFill>
                <a:latin typeface="Arial"/>
              </a:rPr>
              <a:t>Trained staff working at PoE to observe travelers and detect signs and symptoms of disea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arrivals from EVD affected countries to provide contact information and physical address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f0"/>
                </a:solidFill>
                <a:latin typeface="Arial"/>
              </a:rPr>
              <a:t>Temperature screening of travelers from EVD affected countries ( optional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lth officials to provide information on EVD and Emergency contact numbers and advise on self- monitoring for signs or symptoms of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Objective 3. Tools used for scree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324000" y="17827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Screening form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Infra-red thermome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nd hel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dy scan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SOPs and flowchar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4572000" y="2071800"/>
            <a:ext cx="4361040" cy="26845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468000" y="14130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060"/>
                </a:solidFill>
                <a:latin typeface="Arial"/>
                <a:ea typeface="Calibri"/>
              </a:rPr>
              <a:t>Others supplies: 9 PPE full sets at each PoE Medical equipment to survey ca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Calibri"/>
              </a:rPr>
              <a:t>3 Infrared Hand held Thermometers, 1 Scanner, 2 Observation room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060"/>
                </a:solidFill>
                <a:latin typeface="Arial"/>
                <a:ea typeface="Calibri"/>
              </a:rPr>
              <a:t>2 Health facilities and supplies for safe isolation and observation of suspect cases if possible separation room, if not, a separated are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060"/>
                </a:solidFill>
                <a:latin typeface="Arial"/>
                <a:ea typeface="Calibri"/>
              </a:rPr>
              <a:t>Depending on the geographical location, 1 Ambulance at Po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Objective 4. Facilities, Equipment an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Arial"/>
              </a:rPr>
              <a:t>Key messag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68360" y="1484280"/>
            <a:ext cx="82296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re should be no general ban on international travel or trade to and from the affected countri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b0f0"/>
                </a:solidFill>
                <a:latin typeface="Arial"/>
              </a:rPr>
              <a:t>States should provide travellers to Ebola affected and at-risk areas with relevant information on risk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ates should be prepared to detect, investigate, and manage Ebola cases and have the capacity to manage travelers originating from known Ebola-infected areas who arrive at PoE with unexplained febrile illn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b0f0"/>
                </a:solidFill>
                <a:latin typeface="Arial"/>
              </a:rPr>
              <a:t>The general public should be provided with accurate and relevant information on the Ebola outbreak and measures to reduce the risk of expos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5788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References and additional guidelines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4526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it screening Ebola Guidance Package- WHO, Sept 20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ravel and transport risk assessment: Interim guidance for public health authorities and the transport s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O Interim Guidance for Ebola Event Management at Points of Entry, Sept 2014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Arial"/>
              </a:rPr>
              <a:t>General objectiv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68360" y="1844280"/>
            <a:ext cx="822960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s presentation describes key elements for conducting screening of travellers for EVD at points of ent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Arial"/>
              </a:rPr>
              <a:t>Learning objectiv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68360" y="1700280"/>
            <a:ext cx="822960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Objective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lain the purpose of screening travelers for EVD at Points of Entry (Po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Objective 2: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be the processes required for screening for EVD at PO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Objective 3: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y the tools used for screening at the points of entr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Objective 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y the facilities, SOPs, equipment, and supplies needed and at the points of ent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Objective 1: Purpose of screening for EVD at Po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196640"/>
            <a:ext cx="822960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y person with an illness consistent with (Ebola) should not be allowed to travel unless the travel is part of an appropriate medical evacuation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Dr Margaret Chan, WHO Director-General,8 Aug 2014, Gene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urpose of screening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30824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060"/>
                </a:solidFill>
                <a:latin typeface="Arial"/>
              </a:rPr>
              <a:t>Public Health Emergency (PHE) plans and SOPS should be in place at designated Points of Entry (PoEs). The aim is 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 early detection of potentially infected persons, isolate and mange c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mplement WHO recommendations related to control and prevention of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event the international spread of the disease while allowing PoE authorities to avoid unnecessary restrictions and delay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Potential points of public health hazard  detection &amp; not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324000" y="2492280"/>
            <a:ext cx="852480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50752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Objective 2: Process of screening : </a:t>
            </a: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Exit screening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74760" y="12366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es with Ebola transmission should conduct exit screening  for all persons at international airports, seaports and major land crossings for unexplained febrile illness consistent with potential Ebola infe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ssent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Screening to be at the first security check before check in counter for air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Minimum requirements 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questionna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temperature measurement t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febrile, An assessment of the risk that fever is caused by EV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Process of screening : </a:t>
            </a: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Exit screening (2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523520"/>
            <a:ext cx="822960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Primary screening to identify travelers for exposure risk and signs of illness with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travelers requested to fill in the travel health questionnaire to detect exposure r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 staff working at PoE to observe travelers and detect signs and symptoms of disea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mperature screening of all travel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2060"/>
                </a:solidFill>
                <a:latin typeface="Arial"/>
              </a:rPr>
              <a:t>If a traveler has fever, or exposure risk he/she should for secondary scree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Process of screening : </a:t>
            </a: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Exit screening 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Secondary screening to further assess the risk of exposure/ infection of travelers  by trained public health offic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ople identified with suspected EVD infections /exposure are evaluated for signs and symptoms by trained public health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blic health staff will conduct a public health interview  more in-depth questionnaire and repeat temperature scree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2060"/>
                </a:solidFill>
                <a:latin typeface="Arial"/>
              </a:rPr>
              <a:t>Based on the secondary screening, public health officer may allow the travel or refer the traveler to public health or medical authorit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14:06:57Z</dcterms:created>
  <dc:creator>Etienne M Minkoulou</dc:creator>
  <dc:description/>
  <dc:language>en-US</dc:language>
  <cp:lastModifiedBy>Gomez, Paula</cp:lastModifiedBy>
  <cp:lastPrinted>2013-10-01T07:19:12Z</cp:lastPrinted>
  <dcterms:modified xsi:type="dcterms:W3CDTF">2014-12-15T15:31:07Z</dcterms:modified>
  <cp:revision>334</cp:revision>
  <dc:subject/>
  <dc:title>DPC Training and Technical Update</dc:title>
</cp:coreProperties>
</file>